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0A66C-DCB3-4B87-97D9-D3EB231DF2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791F7-A3BC-4FD6-B20F-C01890CF4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D754A-D421-4284-8819-B38C861EE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9FD8D-B7C2-41D3-9137-32B772F176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0917A-5BFB-41D2-BBF8-579FA9D04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08DB2-0422-4BBF-BBC2-D527230F63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6786-D327-4823-A61F-B197F9EE1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8F23-1C90-4CA9-869F-A88E6CE0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A780-67EB-43A2-B33C-0F87F966C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8128-E985-4C5D-AB84-4FEB956FA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2249-EBAC-4EC6-B762-8F5E8587B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87C2-DAC3-4AEF-8D4E-64F4B9983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6463-91F1-4CEE-9E90-9C30AE4C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B695-05CC-4F25-A08F-64F2BEA77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C30C-F570-4B56-B26E-DDF184E63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0278-CCE8-451C-BCB3-D08A9BF1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AC29-034D-4B9A-83FF-9F256C6F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BFA2-1C06-4E5E-B07F-1940D1CB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550"/>
              </a:spcBef>
              <a:buClr>
                <a:srgbClr val="008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550"/>
              </a:spcBef>
              <a:buClr>
                <a:srgbClr val="4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35376-F5D0-4D8B-87D2-BEA14C7E99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S OF TODAY’S ACTIVIT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PIC: Reservoi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After today’s activity, you will be able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Identify movement and/or change of matter as it moves through the water cycl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Define residence time and predict how a system is impacted by changes in residence tim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UAL PRINCIPL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vitational energy, thermal energy and/or chemical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nerg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rive all movement and change of matter on Eart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ystem is in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quilibriu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when energy in the system is balance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tter moves and changes to return a system to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quilibriu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nerg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needed to break bonds and is released when bonds for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eratur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a measure of the movement of molecules.  Higher temperature means molecules are moving fas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Water Phase Chang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1219320" y="635328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kentchemistry.com/images/links/matter/HeatCool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6" descr="HeatCool.gif"/>
          <p:cNvPicPr/>
          <p:nvPr/>
        </p:nvPicPr>
        <p:blipFill>
          <a:blip r:embed="rId1"/>
          <a:stretch/>
        </p:blipFill>
        <p:spPr>
          <a:xfrm>
            <a:off x="1143000" y="1117440"/>
            <a:ext cx="6730920" cy="46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Water Cycl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. What are the phases of water as it resides in various places in the water cycl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9"/>
          <p:cNvSpPr/>
          <p:nvPr/>
        </p:nvSpPr>
        <p:spPr>
          <a:xfrm>
            <a:off x="533520" y="60199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. Liquid &amp; Gas: precipitation, surface water, ground water, clouds; Gas: atmosphe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6" descr="watercyclesummary.jpg"/>
          <p:cNvPicPr/>
          <p:nvPr/>
        </p:nvPicPr>
        <p:blipFill>
          <a:blip r:embed="rId1"/>
          <a:stretch/>
        </p:blipFill>
        <p:spPr>
          <a:xfrm>
            <a:off x="1371600" y="1419120"/>
            <a:ext cx="6591240" cy="45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 Cycl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60" name="Picture 4" descr="FIGURESCIRCACTIVITY.png"/>
          <p:cNvPicPr/>
          <p:nvPr/>
        </p:nvPicPr>
        <p:blipFill>
          <a:blip r:embed="rId1"/>
          <a:stretch/>
        </p:blipFill>
        <p:spPr>
          <a:xfrm>
            <a:off x="-76320" y="11430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61" name="TextBox 4"/>
          <p:cNvSpPr/>
          <p:nvPr/>
        </p:nvSpPr>
        <p:spPr>
          <a:xfrm>
            <a:off x="7391520" y="914400"/>
            <a:ext cx="17524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vap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o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ecipi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uno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den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rface w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round w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dentify &amp; Label the phas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s and Liqu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up Work &amp; Homework: Reservoir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63" name="Rectangle 3" descr=""/>
          <p:cNvPicPr/>
          <p:nvPr/>
        </p:nvPicPr>
        <p:blipFill>
          <a:blip r:embed="rId1"/>
          <a:stretch/>
        </p:blipFill>
        <p:spPr>
          <a:xfrm>
            <a:off x="378000" y="1139760"/>
            <a:ext cx="854064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7T20:43:51Z</dcterms:created>
  <dc:creator>Julie Libarkin</dc:creator>
  <dc:description/>
  <dc:language>en-US</dc:language>
  <cp:lastModifiedBy>Nicole LaDue</cp:lastModifiedBy>
  <dcterms:modified xsi:type="dcterms:W3CDTF">2010-12-17T22:28:14Z</dcterms:modified>
  <cp:revision>299</cp:revision>
  <dc:subject/>
  <dc:title>PowerPoint Presentation</dc:title>
</cp:coreProperties>
</file>